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8F2-EE36-4CD8-BCEB-6C1CF6B2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25F-F2A9-411F-A3DE-80E6755D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245-CD09-4338-A71A-6C8B9BD3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C27-C801-4F43-8180-3D21A4AE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A27-B1EB-49DC-ABAE-4073166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B54-8041-40BD-B66D-F41F373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2C3-37B4-4C51-A062-445A172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D87-EDE8-45D0-9BEB-BC5D4795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2C3-E585-4F42-A828-B213294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54C-01A0-4DE8-9B93-DCD00BC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7FC-DD41-465C-BA7E-E1B5C6E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698-B410-42CA-9862-B3A0EB6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16E-637A-4844-97D0-F8FDB69816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Zástupný symbol pro obsah 3" descr="FotkyFoto_25713683_M.jpg"/>
          <p:cNvPicPr/>
          <p:nvPr/>
        </p:nvPicPr>
        <p:blipFill>
          <a:blip r:embed="rId1"/>
          <a:stretch/>
        </p:blipFill>
        <p:spPr>
          <a:xfrm>
            <a:off x="3048120" y="2846520"/>
            <a:ext cx="30477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obsah 3" descr="FotkyFoto_5428029_M.jpg"/>
          <p:cNvPicPr/>
          <p:nvPr/>
        </p:nvPicPr>
        <p:blipFill>
          <a:blip r:embed="rId1"/>
          <a:stretch/>
        </p:blipFill>
        <p:spPr>
          <a:xfrm>
            <a:off x="3048120" y="2843280"/>
            <a:ext cx="30477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FotkyFoto_30924605_M.jpg"/>
          <p:cNvPicPr/>
          <p:nvPr/>
        </p:nvPicPr>
        <p:blipFill>
          <a:blip r:embed="rId1"/>
          <a:stretch/>
        </p:blipFill>
        <p:spPr>
          <a:xfrm>
            <a:off x="3048120" y="2844720"/>
            <a:ext cx="30477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3" descr="FotkyFoto_26603849_M.jpg"/>
          <p:cNvPicPr/>
          <p:nvPr/>
        </p:nvPicPr>
        <p:blipFill>
          <a:blip r:embed="rId1"/>
          <a:stretch/>
        </p:blipFill>
        <p:spPr>
          <a:xfrm>
            <a:off x="3048120" y="2384280"/>
            <a:ext cx="304776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FotkyFoto_42133067_M.jpg"/>
          <p:cNvPicPr/>
          <p:nvPr/>
        </p:nvPicPr>
        <p:blipFill>
          <a:blip r:embed="rId1"/>
          <a:stretch/>
        </p:blipFill>
        <p:spPr>
          <a:xfrm>
            <a:off x="3048120" y="2867040"/>
            <a:ext cx="30477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3" descr="FotkyFoto_49890363_M.jpg"/>
          <p:cNvPicPr/>
          <p:nvPr/>
        </p:nvPicPr>
        <p:blipFill>
          <a:blip r:embed="rId1"/>
          <a:stretch/>
        </p:blipFill>
        <p:spPr>
          <a:xfrm>
            <a:off x="3048120" y="23385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8T12:42:23Z</dcterms:created>
  <dc:creator>U českých pánů</dc:creator>
  <dc:description/>
  <dc:language>en-US</dc:language>
  <cp:lastModifiedBy>U českých pánů</cp:lastModifiedBy>
  <dcterms:modified xsi:type="dcterms:W3CDTF">2017-04-18T12:44:36Z</dcterms:modified>
  <cp:revision>1</cp:revision>
  <dc:subject/>
  <dc:title>Snímek 1</dc:title>
</cp:coreProperties>
</file>