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E263-18AB-4488-9899-E9B59EDC7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626D-2B96-48CE-AAF6-63E49F5C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B879-98C0-4283-8758-D31C2500F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C5CB-C42A-43B5-BD89-AFAB0C56F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F86B-403E-430D-AD3E-96BD29AD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1D55-BEA4-4C8B-893B-F86D5C48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3745-9238-4EEB-8155-45A345D0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316E-05E8-4FA8-9BF4-B35C3587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7356-9EEC-4EF9-BB69-206C0866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AF5A-D765-4A62-B0BC-30A351E2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51DD-59BD-462D-86DF-0330654E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F3D7-9D2F-4C06-89D1-9733704F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E22D-448C-4943-AA9B-E1385D469A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Zástupný symbol pro obsah 3" descr="FotkyFoto_25713683_M.jpg"/>
          <p:cNvPicPr/>
          <p:nvPr/>
        </p:nvPicPr>
        <p:blipFill>
          <a:blip r:embed="rId1"/>
          <a:stretch/>
        </p:blipFill>
        <p:spPr>
          <a:xfrm>
            <a:off x="3048120" y="2846520"/>
            <a:ext cx="3047760" cy="20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Zástupný symbol pro obsah 3" descr="FotkyFoto_5428029_M.jpg"/>
          <p:cNvPicPr/>
          <p:nvPr/>
        </p:nvPicPr>
        <p:blipFill>
          <a:blip r:embed="rId1"/>
          <a:stretch/>
        </p:blipFill>
        <p:spPr>
          <a:xfrm>
            <a:off x="3048120" y="2843280"/>
            <a:ext cx="304776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Zástupný symbol pro obsah 3" descr="FotkyFoto_30924605_M.jpg"/>
          <p:cNvPicPr/>
          <p:nvPr/>
        </p:nvPicPr>
        <p:blipFill>
          <a:blip r:embed="rId1"/>
          <a:stretch/>
        </p:blipFill>
        <p:spPr>
          <a:xfrm>
            <a:off x="3048120" y="2844720"/>
            <a:ext cx="304776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Zástupný symbol pro obsah 3" descr="FotkyFoto_26603849_M.jpg"/>
          <p:cNvPicPr/>
          <p:nvPr/>
        </p:nvPicPr>
        <p:blipFill>
          <a:blip r:embed="rId1"/>
          <a:stretch/>
        </p:blipFill>
        <p:spPr>
          <a:xfrm>
            <a:off x="3048120" y="2384280"/>
            <a:ext cx="304776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Zástupný symbol pro obsah 3" descr="FotkyFoto_42133067_M.jpg"/>
          <p:cNvPicPr/>
          <p:nvPr/>
        </p:nvPicPr>
        <p:blipFill>
          <a:blip r:embed="rId1"/>
          <a:stretch/>
        </p:blipFill>
        <p:spPr>
          <a:xfrm>
            <a:off x="3048120" y="2867040"/>
            <a:ext cx="304776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Zástupný symbol pro obsah 3" descr="FotkyFoto_49890363_M.jpg"/>
          <p:cNvPicPr/>
          <p:nvPr/>
        </p:nvPicPr>
        <p:blipFill>
          <a:blip r:embed="rId1"/>
          <a:stretch/>
        </p:blipFill>
        <p:spPr>
          <a:xfrm>
            <a:off x="3048120" y="2338560"/>
            <a:ext cx="30477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8T12:42:23Z</dcterms:created>
  <dc:creator>U českých pánů</dc:creator>
  <dc:description/>
  <dc:language>en-US</dc:language>
  <cp:lastModifiedBy>U českých pánů</cp:lastModifiedBy>
  <dcterms:modified xsi:type="dcterms:W3CDTF">2017-04-18T12:44:36Z</dcterms:modified>
  <cp:revision>1</cp:revision>
  <dc:subject/>
  <dc:title>Snímek 1</dc:title>
</cp:coreProperties>
</file>